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7B0DC-416A-47F9-8B1F-68F5597C6B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B447B-EED6-45EB-B946-82542A219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C7160-B957-4EFE-AA47-70363D91E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28F3F-865F-4DAB-8AAB-CC818DCAF8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Uma vez estudados e divulgados os resultados, o passo seguinte consiste em preparar um plano de ação para abordar áreas que motivem preocupação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s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Use exemplos relevantes do seu próprio paí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AA9F5-1568-4FE5-9991-BB05419B2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F4DAA-3F87-4423-8A0A-899FED5724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iclo de melhoria inicial está completo. No entanto, uma melhoria contínua requer que se inicie o planeamento de outra avaliação da situação. Em alternative, as instituições podem preferir iniciar o planeamento de uma avaliação ou auditoria que permita garantir que o plano de ação abordou o problema (p.ex. prescrição antibiótic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coordenadores nacionais do HALT coordinators devem atualizar esta secção com recursos sobre PCI relevantes para os seus paí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A7AEB-9207-4451-8922-4F9AE15EC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42E1A-5A9D-43AE-80F7-E0AA6F9BEE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Para melhorar o cuidado dos residentes, toda a equipa de trabalho da “UCC” precisa de conhecer os resultados do estudo e que melhorias/mudanças estão planeadas como resposta a esse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03423-FA28-4E06-AD3B-B675F07670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iclo de Melhoria (“Audit Cycle”) (planear, fazer, avaliar e agir) garante que os resultados do HALT-3 são usados para melhorar o cuidado aos residentes. Nesta altura, as instituições participantes completaram o estudo e portanto agora os resultados necessitam de ser avaliados e deve-se agir sobre e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3CEF6-43E2-49B0-8169-9E36B9ED7A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No entanto, dado que nem todos os centros participantes terão acesso a um GCL, nós forneceremos um breve resumo com os pontos-chave a considerar quando se der informação de retorno sobre os result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89700-F010-45D8-9B25-46FD51AF9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2A1-BDAA-4C0E-8C07-3DBF262D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60B-2701-45EE-BC35-6F1E6049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C7A-AAF6-4EAF-863E-C645EEAD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6FC-B2E6-48C3-8585-D6980D9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C9B-2065-4DFF-A515-A28353CD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3FC-0A74-4052-89D2-3DF84704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B7B-15F2-40FC-8CE5-6B136E7A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23E-A270-4D8C-ABC7-F923DAE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C83-7CDA-4C2B-9C7D-A5E4C2B2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9BB-DBB1-468D-A869-D31F637C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0B8-2FA1-467D-92F4-55BC66B6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CA1-6364-4A4B-AA47-9FD6EB90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17DD6-9A14-4C5C-BBF3-4D266C67D1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7C9E5-ABFB-44BC-86E4-6BFEEB0FD3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36D17-ECA6-4D0E-8FC1-69A8A0949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4C484-ABFA-4E2C-932D-25A2174D33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36604-68AC-4A36-97C2-696095A365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1444B-2293-4460-AF29-10D3B776A4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A3FD-CE3E-42AD-B6A4-DAA3D3573A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E5E32-7655-41A6-AE12-52D0E7079D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BCBBA-FBD0-4C8B-BA92-AED3D63510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2B396-78FE-495B-8693-9921E8AA4B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897A3-C660-451F-A66B-545D487E6C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149B0-7FEA-4F17-896B-5C248375C9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DF38B-7D27-4958-BE61-A8B750F3B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F4A39-DE36-4F1C-AAE9-F5365A47933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46BE7-D2C1-46BE-9CB0-33EA2A7D36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94AC6-58A7-4B34-A02A-B1482FE00DF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60A4D-3F22-4AD8-825B-51449275D3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5BFA6-FF34-40A8-8C54-CB235551A06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4A69C-367A-478C-A1AC-D62DC45158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A07C1-675F-4BDD-82FA-2AA723DC62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44BE6-712E-4D86-8BC6-10DEB3190B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BFE07-307B-4A4C-805B-C2172E3070C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27571-B5C2-4F6D-9AC3-1CAB4132B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5F765-EE12-4604-A94E-0D56113A7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F5F82-8272-4814-BE53-18EB542B77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56F3E-33F9-4B78-91E6-46F9C095D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Presentation_Template_Title_new"/>
          <p:cNvPicPr/>
          <p:nvPr/>
        </p:nvPicPr>
        <p:blipFill>
          <a:blip r:embed="rId4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423200" y="504720"/>
            <a:ext cx="1263600" cy="1136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8C6E9-90E0-483A-983B-BCDC11B6A37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23503-705B-4B77-B239-2C4DF9EE782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691080"/>
            <a:ext cx="845640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Apresentaçã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9</a:t>
            </a:r>
            <a:endParaRPr b="1" lang="en-US" sz="32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24000" y="4317840"/>
            <a:ext cx="8456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Tahoma"/>
              </a:rPr>
              <a:t>Participámos! E agora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40752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DIVULGAR OS RESULTADOS: QUAND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736640"/>
            <a:ext cx="8526240" cy="50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apidamente após o estudo, para que se possa atu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Procure ter resultados disponíveis em 3-4 meses e preferivelmente não mais de 6 meses após o estudo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743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COMO DIVULGAR A INFORMAÇÃO DE RETORN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4000" y="2017800"/>
            <a:ext cx="852624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ada instituição deve decidir qual a melhor forma de divulgar os resultados aos diferentes grup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presentações formais e inform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latório escr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Folhet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Incluir a divulgação dos resultados em programas de formação regul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81080" indent="-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81080" indent="-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36600" y="155520"/>
            <a:ext cx="7834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COMO PODE O CUIDADO AOS RESIDENTES SER MELHORAD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ICLO DE MELHOR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54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PLANO DE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4000" y="1630440"/>
            <a:ext cx="8526240" cy="46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A Administração da instituição deve preparar e implementar um plano de 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O plano de ação de incluir prazos e pessoa(s) nomeada(s) como responsáveis por cada elemento do pl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A Administração da instituição de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Monitorizar a implementação do plano de a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Planificar a realização de vigilâncias / auditorias repetidas para garantir que o plano de ação aborda os aspetos necessá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24000" y="1351080"/>
            <a:ext cx="86868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mplementar uma </a:t>
            </a:r>
            <a:r>
              <a:rPr b="0" i="1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list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de auditoria e monitorização para medir a adesão a todas as recomendações de prevenção e controlo de infe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pacitar os enfermeiros para rever as análises de ur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azer circular as recomendações nacionais entre os prescritores: “Feixe de Intervenções de Prevenção da Infeção Urinária Associada ao Cateter Vesical” (</a:t>
            </a:r>
            <a:r>
              <a:rPr b="0" i="1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rma DGS 019/2015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, “Terapêutica de infeções do aparelho urinário (comunidade)”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Norma DGS 015/2011).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mover um estudo piloto de um feixe de intervenções de terapêutica antimicrobiana.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863800" y="5365800"/>
            <a:ext cx="6135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800" spc="-1" strike="noStrike">
                <a:solidFill>
                  <a:srgbClr val="4d4d4d"/>
                </a:solidFill>
                <a:latin typeface="Comic Sans MS"/>
                <a:ea typeface="ＭＳ Ｐゴシック"/>
              </a:rPr>
              <a:t>Moran &amp;  Rooney;  Patient Safety Conference, Royal College of Physicians,  Dublin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PLANO DE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ICLO DE MELH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482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36600" y="155520"/>
            <a:ext cx="7834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COMO PODE O CUIDADO AOS RESIDENTES SER MELHORAD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85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AVALIAR O HAL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24000" y="1207800"/>
            <a:ext cx="8526240" cy="50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eveja a sua experiência de realização do estudo na sua instituiçã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onsider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O treino foi suficiente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O estudo demorou quanto tempo a ser completad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e problemas ocorreram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De que forma poderia o estudo ser melhorad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 sua instituição estaria interessada em repetir o estudo?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ê informação de retorno com os seus comentários ao seu coordenador nacion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554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RESUM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1526760"/>
            <a:ext cx="8526240" cy="51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A realização de qualquer projeto de vigilância exige empenho e recurs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No entanto, os residentes só irão beneficiar s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Os resultados forem comunicados à equipa de trabalho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For desenvolvido um plano de ação para abordar quaisquer lacunas e deficiências identific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RECURSOS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079640"/>
            <a:ext cx="862776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udorf U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et al.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althcare-associated infections in long-term care facilities (HALT) in Frankfurt am Main, Germany, January to March 2011. Euro Surveill. 2012;17(35):pii=20256. Available online: http://www.eurosurveillance.org/ViewArticle.aspx?ArticleId=20256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radley S. 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Strategies to improve outcomes in nursing home residents with modifiable risk factors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respiratory tract infections. Pennsylvania Patient Safety Advisory;  2011; 8 (4): 131-7 http://patientsafetyauthority.org/ADVISORIES/AdvisoryLibrary/2011/dec8(4)/Pages/131.aspx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National Clinical Guideline Centre: 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Infection: prevention and control of healthcare-associated infections in primary and community care. 2012  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 http://www.nice.org.uk/nicemedia/live/13684/58654/58654.pd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HSE/HPSC 2011. Diagnosis &amp; Management of Urinary Tract Infection in Long Term Care Residents &gt;65yrs. http://www.hpsc.ie/hpsc/A-Z/MicrobiologyAntimicrobialResistance/InfectionControlandHAI/Guidelines/File,12929,en.pd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OBJETIVOS DA APRESENT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escrever como a informação pode ser usada para a 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Sublinhar como deve ser dada a informação de retorno sobre os resul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em deverá receber informação de retorn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e informação deverá ser incluid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Explicar como deve ser entregue a informação de reto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and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Exemplificar como se pode melhorar o cuidado dos resid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escrever como pode ser avaliada a experiência de participação no estudo HALT-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ff"/>
                </a:solidFill>
                <a:latin typeface="Calibri"/>
              </a:rPr>
              <a:t>INFORMAÇÃO PARA A AÇÃ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680" y="0"/>
            <a:ext cx="10699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INFORMAÇÃO PARA A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ahoma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olheita e análise sistemática dos dad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ahoma"/>
              </a:rPr>
              <a:t>e o uso desta informação para a </a:t>
            </a:r>
            <a:r>
              <a:rPr b="0" i="1" lang="pt-PT" sz="2400" spc="-1" strike="noStrike" u="sng">
                <a:solidFill>
                  <a:srgbClr val="ff0000"/>
                </a:solidFill>
                <a:uFillTx/>
                <a:latin typeface="Tahoma"/>
              </a:rPr>
              <a:t>ação</a:t>
            </a:r>
            <a:r>
              <a:rPr b="0" lang="pt-PT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p.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Melhorar o cuidado aos resid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duzir a ocorrência de IACS preveníve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duzir o uso inapropriado de antibió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ar com outras instituições com o mesmo tipo de do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ICLO DE MELH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48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INFORMAÇÃO PARA A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080" y="554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PREPARANDO A INFORMAÇÃO DE RETORNO SOBRE OS RESULTADOS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44080" y="1805040"/>
            <a:ext cx="8526600" cy="41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onsulte a sua equipa local de prevenção e controlo de infeção (GCL) e solicite apoio par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ar os seus resultados com outros locais/nacionais/internation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dequar a informação de retorno aos diferentes grupos da equipa de trabal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Explique os dados sobre os fatores de ri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Desenvolva planos de ação dirigidos a áreas de particular preocup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4160" y="6397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QUEM DEVERÁ RECEBER INFORMAÇÃO DE RETORN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1590840"/>
            <a:ext cx="8526240" cy="46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 equipa superior de gestão operacional (Administraçã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issão de prevenção e controlo da infeção (GCL-PPCIR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Todos os membros relevantes da equipa cuidadora (médicos, enfermeiros, assistentes operacionais, etc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sidentes e famílias/cuid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Em alguns países pode ser exigido relatório externo (p.ex. serviços de saúde pública, entidades reguladoras)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81080" indent="-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56628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QUE INFORMAÇÃ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5000" y="1144440"/>
            <a:ext cx="8701200" cy="51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O centro coordenador nacional pode fornecer um relatório local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Se for VOCÊ a elaborar o relatório, inclu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Número de residentes elegíveis para particip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com infeção(õe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Tipo de infeções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sob antimicrobiano(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Inclua os tipos de antimicrobianos e porque foram prescritos (terapêutica/profilaxi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com fatores de risco para infe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com cateter urinário/cateteres vasculares/feridas/úlceras de pressão, etc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Recursos para prevenção e controlo de infe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Recursos para apoio à prescrição antibió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4440" y="75528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QUE INFORMAÇÃO?(2)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44080" y="1715760"/>
            <a:ext cx="852660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e com instituições semelh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e com os resultados do estudo HALT de 2010 ou 2013, se realizados na instituiçã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ff0000"/>
                </a:solidFill>
                <a:latin typeface="Tahoma"/>
              </a:rPr>
              <a:t>Cuidado ao comparar taxas de infeção, já que as definições de IACS utilizadas em 2010 e 2013 não são as mesmas que as usadas no presente estu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Os dados de antimicrobianos e fatores de risco permaneceram maioritariamente inalterados e podem ser compar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5T19:01:59Z</dcterms:created>
  <dc:creator>David Daly</dc:creator>
  <dc:description/>
  <dc:language>en-US</dc:language>
  <cp:lastModifiedBy>Margarida</cp:lastModifiedBy>
  <cp:lastPrinted>2012-06-14T09:00:27Z</cp:lastPrinted>
  <dcterms:modified xsi:type="dcterms:W3CDTF">2017-03-12T17:24:59Z</dcterms:modified>
  <cp:revision>290</cp:revision>
  <dc:subject/>
  <dc:title>Preparing for participation in HALT-2</dc:title>
</cp:coreProperties>
</file>